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333-CF23-44F6-944D-C2D1C030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006-F4F6-425A-BA56-6033E2A3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4A67B-9583-4E78-BB6C-2F804B8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59968-5269-4DE5-A542-1ECF663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C823A-3057-417C-8C00-80DDA99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FDF9C-0561-4360-B298-DE6CCB4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699D-FDDE-40AC-8B2D-CDD4DB9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1A4BD-0C5B-4B11-BE13-D16BAAC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94010-D939-4167-A0CE-34A1D54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30FC9-BDDD-4CAD-A9A0-6ECEA5DA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E1BC1-BB35-4AF4-B3DD-6D9B4453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B4E8-7759-408A-8B7F-886878A3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D6A-FE52-4085-814C-AF72FB6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FA541-A7BA-49B0-BE2F-45A48CA5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1527C-5E05-415E-92A6-B1EC677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E4FB8-29EE-4A2A-916D-E3BA85DA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E5EC7-DBF4-4717-828B-6CC2583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8028D-076F-4507-952D-B645A342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201BA-C66C-4F06-8AAA-68C68DA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A4F7-3EBA-414C-BAB8-63F4A26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359F5-A761-4C87-8202-AE67E69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25A58-13F1-4023-AA57-BD58828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2F8A-1947-42ED-B196-4586147F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2F4-1500-446A-937B-A1702975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537F8-DD03-4C38-8A46-E2340C7C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F3A5-5761-4B4B-946F-A50DA4F3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14ED3-87C4-447C-BF93-55A03254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1E2F-BFAB-4B5A-8AE0-F4F7888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602CE-7234-48CC-B908-3BAE88B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3E84-02BE-4BAB-8D3A-A2741DE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9555-2088-4A9F-9E1A-2C25039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D323F-36FF-4852-B4AE-AEA3353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36CC9-B6F9-40C0-B5F8-E16336E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B4E2E-50C7-49F9-915B-ABCAC90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2B32-A714-45E2-8794-99AAF7CA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70FC-FDA0-45B2-B8EA-B50BBBC5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B7F6F-3392-4B7D-80B5-01A347AA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8131C-6B41-4DF1-B846-FDC288D0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72FED-0261-427F-AC57-4C4D0712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1452E-A4BC-4CCA-B2DF-6C99BC27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6B446-DEBC-4D3D-82C3-C39032E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8306B-A621-47F7-A993-DCDF91D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52E89-FA1B-40B5-A205-C5C2B817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17D75-BEB5-4E41-A16B-30C0E0C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8BA21-3500-4305-B953-7F06B7C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694D-34D1-487B-A75C-01CC01F3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F6B4D-7948-45DF-B05A-F5508B3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B9F0D-36C5-45EC-B9C5-C38F9DE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BE29C-32B8-4933-A60A-F40ADCC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A64EA-3B21-4CD8-8ACC-CA2C744F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E16D8-DF9C-41CD-8986-94E133CF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F3A9B-9C42-4C13-A07D-BFC37703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8A106-8D87-4D2E-B892-BB16A50E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B93CD-8224-4535-8166-FC67449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028F-8306-48D8-A01F-641F7272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6B530-4D8D-4635-A411-B9F1085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BAC7-F24E-4487-8DC8-5240617F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58877-FF52-429D-A85D-13E54B0B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CAFAC-79C1-495C-8D28-7CE45D0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D4B7C-7DC6-41F8-AD19-7151716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E0533-AE85-459E-8320-793D626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199BE-E10B-4F2B-870D-B82FF3C0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B7F28-E7B6-4681-B869-61D203A1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413C4-6218-4EC5-8838-A611B1C8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573-7B1A-4268-B583-C5118E0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6C9-AF0F-46D0-99F4-440D1CB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7288-E9B9-4D7F-928D-19AD6E4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E91-8027-4DB4-8262-FF10C9A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16B-030F-4652-80D4-4F9A075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DD73-3FAC-42DA-A65A-6107A6C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51B3-28BA-4CBA-8D27-D6E95AF4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9CEF-A74D-4AF3-848E-C3C1A48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82B9-054B-4F6A-97F5-F4E678D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941F-C33F-4BBB-A87E-93ED6D97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0995-FE17-470D-8367-1B48506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83B3-66E4-4016-926E-32EF294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B20C-8E1A-40BC-B153-D3309F1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CD69-40E3-4E2A-8277-3E10C2F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8033-5340-4D79-BA51-E917E682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5E9-6050-42C8-BAAC-83EEAAF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0A1B-7832-4FBD-A199-8E88244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9CD9-41C9-4952-917F-2979DEE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7D38-692B-405D-AECD-5B6C4D4E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890A-CCE4-4D7D-8F74-AA43C9F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A2D2-A88A-4FC2-B561-C77636CA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7A17-FF1A-4BBE-9C50-C5A930A6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CF0E-51ED-40D4-9AC5-493B71DF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DA3E-335E-41C5-BCC7-8DB51628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D4E5-E595-4AF9-B3D2-DEC3A504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430E-0B66-4473-BF0F-49D7B48D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F12-D5A9-4821-9474-CF0C403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0D6C-2D2F-4357-9BDD-17AE08D2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FB42-87F3-4C0B-83FB-E6735426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2E46-C078-439D-A3CC-67E5AAE9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2EBFE-F547-47B1-9B99-61C99A15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6B05-E147-4133-B2F5-3FD24140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42B2-A13F-44CA-A8BA-F06E9C1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1252-02B5-4FE6-AABB-7E0E939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A07F0-D99F-4BFE-8A96-A75AD05C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EA86-6600-4FC9-AF9A-1410AEE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E0A5-1C63-4936-8AFE-E29600E3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14E-5FDA-4BA9-8A6A-6A2B654B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C22F-D45B-41EB-AF89-9E3D816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1C47-72D4-4AC4-BE94-44DECF3E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7A3A-D268-46BB-AC7C-5C4D181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82FE-687F-4A51-BBDC-C81C0270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55B8-A274-416A-AF2F-24AD1DF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B8EE-83A2-42B1-9FE1-F8253C6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8651-21F7-4EF4-BDA9-7684435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9DEE-F71A-4E13-81F6-B88193A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B133-6715-4CCA-9E38-F8476E06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A9CD-A2AC-4B88-842F-90F2829B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DAE-1F4E-4A03-9FF5-004B8D1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0FD3-6203-40CD-BF9C-D90E99B5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2B73-F06D-4A2E-A323-1FCB460A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4C6DD-0B1E-4791-A3EA-CD85FB5E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9C2AB-CE65-4D2F-8CFE-180D405C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84C5-479A-4DAF-B3CB-6266BF5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7198-CB9A-45FB-9F0E-E6388F8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897C-D883-4678-BC2E-10FED53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AFA8-82AC-44B3-AC1D-49A72C5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4E6D-BC7D-4790-8F3B-91D9813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7B49-E308-4540-AF19-1A07D7E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257-9AE4-40CC-9E20-89EFEA1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02C0B-621C-48C4-8B94-1791E55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082F-860D-44AD-817F-3B5D75B9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3896-A58D-493E-A9FB-8DEB0528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6798C-87BE-47C9-B6CA-C6E183A8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5AD5-A9F6-4FFE-A7B7-5164C102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4C9B-3516-4231-A05E-25A974B8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C60C7-3B61-44E6-AE27-5BD70A6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0C4E4-AB38-4E51-A7E1-2190AAC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5C64-751F-4534-8198-33CAFAB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BE2E-8CED-46FF-89EE-43DB6F8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634-E529-44B9-8A3F-D7C40D60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6E2A-1D1B-4378-BF5B-557FACF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D1AA-269D-4B5C-81A6-E91CEE6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529F-46CC-4115-A8E4-A1CAE777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9967-D0A8-425F-87CB-86A54D72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C64D-F79B-4D26-B4A7-3D869CD7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BC2B-BC8E-4116-972C-F6DB1D4A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36B8-2A68-4D5A-9ADC-42EE0C2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A70B-8FE3-4ABD-8729-F2B0F43C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527A-CA57-4F97-8DDA-E1B93E6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8973-3C1F-44FC-B037-1100663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10F-2265-475D-A400-2D23693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B13E-5976-4B3E-A5AC-29AF3C0F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F22ED-50E8-4CC0-8ED8-5158BD3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14EA-DB6B-4447-A548-C7847DE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D41A-E031-406E-9FB6-5E51D82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6BA8-C727-4B72-854D-51C595A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0392-67EE-4B95-9303-2A95173A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118D-9E28-4372-A1A2-3D5F3466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9DC85-7C5C-4A23-A260-9D4FBE86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17B50-6943-4F0B-A17C-833C7467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10067-F286-4D75-B073-F09612D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516-4EFF-482E-BFB5-994C030E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563A-3308-432F-ACF9-824B07A3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154-2A43-4405-A69F-F8B74F3F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3BC5-ADB3-4683-9071-02E60EC70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7BC-7940-4423-8B74-B283A1E09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8FA-C552-479E-B7E4-333A1BE0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91C1-D160-4AD3-A28B-85615AAE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1F4-B748-4F6B-A678-418E90BD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B5BC-CBFC-40E0-AEAF-F2FB7930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D023-86D3-4027-9CF3-829E80740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CD9-4A9E-413F-9767-03C78D80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391-DD30-4235-B459-EE08050E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A4DC-A930-4EA2-89D3-0DDE24B7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" TargetMode="External"/><Relationship Id="rId3" Type="http://schemas.openxmlformats.org/officeDocument/2006/relationships/hyperlink" Target="http://en.wikipedia.org/wiki/1_%28number%29" TargetMode="External"/><Relationship Id="rId4" Type="http://schemas.openxmlformats.org/officeDocument/2006/relationships/hyperlink" Target="http://en.wikipedia.org/wiki/V" TargetMode="External"/><Relationship Id="rId5" Type="http://schemas.openxmlformats.org/officeDocument/2006/relationships/hyperlink" Target="http://en.wikipedia.org/wiki/5_%28number%29" TargetMode="External"/><Relationship Id="rId6" Type="http://schemas.openxmlformats.org/officeDocument/2006/relationships/hyperlink" Target="http://en.wikipedia.org/wiki/X" TargetMode="External"/><Relationship Id="rId7" Type="http://schemas.openxmlformats.org/officeDocument/2006/relationships/hyperlink" Target="http://en.wikipedia.org/wiki/10_%28number%29" TargetMode="External"/><Relationship Id="rId8" Type="http://schemas.openxmlformats.org/officeDocument/2006/relationships/hyperlink" Target="http://en.wikipedia.org/wiki/L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0" y="0"/>
            <a:ext cx="5105520" cy="1326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, 3-23 &amp; 2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B.Pop Pax Romana Due 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Growth of Rome Map Due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0" y="1295280"/>
            <a:ext cx="5105520" cy="234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:  Write the Roman Num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23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172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78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 876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7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6" descr="school1"/>
          <p:cNvPicPr/>
          <p:nvPr/>
        </p:nvPicPr>
        <p:blipFill>
          <a:blip r:embed="rId1"/>
          <a:stretch/>
        </p:blipFill>
        <p:spPr>
          <a:xfrm>
            <a:off x="5791320" y="304920"/>
            <a:ext cx="22860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228600" y="3733920"/>
          <a:ext cx="4191120" cy="2930400"/>
        </p:xfrm>
        <a:graphic>
          <a:graphicData uri="http://schemas.openxmlformats.org/drawingml/2006/table">
            <a:tbl>
              <a:tblPr/>
              <a:tblGrid>
                <a:gridCol w="1009800"/>
                <a:gridCol w="318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f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fifty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agi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one hundre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(five hundre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gen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(one thousan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68"/>
          <p:cNvSpPr/>
          <p:nvPr/>
        </p:nvSpPr>
        <p:spPr>
          <a:xfrm>
            <a:off x="5181480" y="3465360"/>
            <a:ext cx="327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maller numbers follow larger numbers, the numbers are added. If a smaller number precedes a larger number, the smaller number is subtracted from the larger.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= 5+3 =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X = 10-1 =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 = 50-10 =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C = 100-10 = 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MLXXXIV = 1000+(1000-100)+50+30+(5-1) =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9"/>
          <p:cNvSpPr/>
          <p:nvPr/>
        </p:nvSpPr>
        <p:spPr>
          <a:xfrm>
            <a:off x="685800" y="1676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X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0"/>
          <p:cNvSpPr/>
          <p:nvPr/>
        </p:nvSpPr>
        <p:spPr>
          <a:xfrm>
            <a:off x="76212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LXX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1"/>
          <p:cNvSpPr/>
          <p:nvPr/>
        </p:nvSpPr>
        <p:spPr>
          <a:xfrm>
            <a:off x="685800" y="2286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X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/>
          <p:cNvSpPr/>
          <p:nvPr/>
        </p:nvSpPr>
        <p:spPr>
          <a:xfrm>
            <a:off x="762120" y="2590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CCCLX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3"/>
          <p:cNvSpPr/>
          <p:nvPr/>
        </p:nvSpPr>
        <p:spPr>
          <a:xfrm>
            <a:off x="7621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XX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4"/>
          <p:cNvSpPr/>
          <p:nvPr/>
        </p:nvSpPr>
        <p:spPr>
          <a:xfrm>
            <a:off x="8380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D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Colosseum_outside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563" name="WordArt 3"/>
          <p:cNvSpPr txBox="1"/>
          <p:nvPr/>
        </p:nvSpPr>
        <p:spPr>
          <a:xfrm>
            <a:off x="2971800" y="30492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olos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reconstruction drawing of Colosseum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colo2_s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oloseum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roman Coliseum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Colosseum_underground"/>
          <p:cNvPicPr/>
          <p:nvPr/>
        </p:nvPicPr>
        <p:blipFill>
          <a:blip r:embed="rId1"/>
          <a:stretch/>
        </p:blipFill>
        <p:spPr>
          <a:xfrm>
            <a:off x="1523880" y="1380960"/>
            <a:ext cx="60962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cid_aj1301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cid_aj1303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reat Builders of 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ivilization is so identified with constructing and building things than the Rom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educts, roads, baths, walls, theatres, temples, arches, cities, palace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built a world from which later peoples still benefitted for a long time to co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of their old roads are even still in use today. So too, some of their great amphitheatre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http://rome.mrdonn.org/rome04.gif"/>
          <p:cNvPicPr/>
          <p:nvPr/>
        </p:nvPicPr>
        <p:blipFill>
          <a:blip r:embed="rId1"/>
          <a:stretch/>
        </p:blipFill>
        <p:spPr>
          <a:xfrm>
            <a:off x="0" y="0"/>
            <a:ext cx="4191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pantheon_s"/>
          <p:cNvPicPr/>
          <p:nvPr/>
        </p:nvPicPr>
        <p:blipFill>
          <a:blip r:embed="rId1"/>
          <a:srcRect l="0" t="6124" r="0" b="0"/>
          <a:stretch/>
        </p:blipFill>
        <p:spPr>
          <a:xfrm>
            <a:off x="0" y="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548" name="WordArt 7"/>
          <p:cNvSpPr txBox="1"/>
          <p:nvPr/>
        </p:nvSpPr>
        <p:spPr>
          <a:xfrm>
            <a:off x="914400" y="4419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nthe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9" name="Picture 9" descr="model_Pantheon_model"/>
          <p:cNvPicPr/>
          <p:nvPr/>
        </p:nvPicPr>
        <p:blipFill>
          <a:blip r:embed="rId2"/>
          <a:stretch/>
        </p:blipFill>
        <p:spPr>
          <a:xfrm>
            <a:off x="4038480" y="3490920"/>
            <a:ext cx="51055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Pantheon_Dome"/>
          <p:cNvPicPr/>
          <p:nvPr/>
        </p:nvPicPr>
        <p:blipFill>
          <a:blip r:embed="rId1"/>
          <a:stretch/>
        </p:blipFill>
        <p:spPr>
          <a:xfrm>
            <a:off x="228600" y="3808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pcd03-10"/>
          <p:cNvPicPr/>
          <p:nvPr/>
        </p:nvPicPr>
        <p:blipFill>
          <a:blip r:embed="rId2"/>
          <a:stretch/>
        </p:blipFill>
        <p:spPr>
          <a:xfrm>
            <a:off x="4724280" y="38088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arches of an aqueduct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57720"/>
          </a:xfrm>
          <a:prstGeom prst="rect">
            <a:avLst/>
          </a:prstGeom>
          <a:ln w="0">
            <a:noFill/>
          </a:ln>
        </p:spPr>
      </p:pic>
      <p:sp>
        <p:nvSpPr>
          <p:cNvPr id="553" name="WordArt 5"/>
          <p:cNvSpPr txBox="1"/>
          <p:nvPr/>
        </p:nvSpPr>
        <p:spPr>
          <a:xfrm>
            <a:off x="2895480" y="838080"/>
            <a:ext cx="26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que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archcon10"/>
          <p:cNvPicPr/>
          <p:nvPr/>
        </p:nvPicPr>
        <p:blipFill>
          <a:blip r:embed="rId1"/>
          <a:srcRect l="0" t="11447" r="0" b="0"/>
          <a:stretch/>
        </p:blipFill>
        <p:spPr>
          <a:xfrm>
            <a:off x="685800" y="5335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55" name="WordArt 7"/>
          <p:cNvSpPr txBox="1"/>
          <p:nvPr/>
        </p:nvSpPr>
        <p:spPr>
          <a:xfrm>
            <a:off x="2057400" y="5638680"/>
            <a:ext cx="4724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antine's 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keystn1"/>
          <p:cNvPicPr/>
          <p:nvPr/>
        </p:nvPicPr>
        <p:blipFill>
          <a:blip r:embed="rId1"/>
          <a:stretch/>
        </p:blipFill>
        <p:spPr>
          <a:xfrm>
            <a:off x="1905120" y="228600"/>
            <a:ext cx="5486400" cy="51339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914400" y="5715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stone in an arch bridge, without this stone the arch would collapse. The keystone holds the arch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keystone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990720" y="5486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 arch can be built a wooden frame is built. This allows the stones to be put in position. The frame is removed after the stones are i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KeystoneBoss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41911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10800" y="6000"/>
                </a:moveTo>
                <a:lnTo>
                  <a:pt x="13376" y="8611"/>
                </a:ln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lnTo>
                  <a:pt x="17763" y="12963"/>
                </a:lnTo>
                <a:lnTo>
                  <a:pt x="16109" y="12963"/>
                </a:lnTo>
                <a:lnTo>
                  <a:pt x="16109" y="20152"/>
                </a:lnTo>
                <a:lnTo>
                  <a:pt x="5491" y="20152"/>
                </a:lnTo>
                <a:lnTo>
                  <a:pt x="5491" y="12963"/>
                </a:lnTo>
                <a:lnTo>
                  <a:pt x="3837" y="12963"/>
                </a:lnTo>
                <a:close/>
              </a:path>
              <a:path fill="darkenLess" w="21600" h="25926">
                <a:moveTo>
                  <a:pt x="13376" y="8611"/>
                </a:move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close/>
              </a:path>
              <a:path fill="darkenLess" w="21600" h="25926">
                <a:moveTo>
                  <a:pt x="9877" y="16462"/>
                </a:moveTo>
                <a:lnTo>
                  <a:pt x="11723" y="16462"/>
                </a:lnTo>
                <a:lnTo>
                  <a:pt x="11723" y="20152"/>
                </a:lnTo>
                <a:lnTo>
                  <a:pt x="16109" y="20152"/>
                </a:lnTo>
                <a:lnTo>
                  <a:pt x="16109" y="12963"/>
                </a:lnTo>
                <a:lnTo>
                  <a:pt x="5491" y="12963"/>
                </a:lnTo>
                <a:lnTo>
                  <a:pt x="5491" y="20152"/>
                </a:lnTo>
                <a:lnTo>
                  <a:pt x="9877" y="201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9:25:31Z</dcterms:created>
  <dc:creator>Selena Ramsey</dc:creator>
  <dc:description/>
  <dc:language>en-US</dc:language>
  <cp:lastModifiedBy>poweruser</cp:lastModifiedBy>
  <dcterms:modified xsi:type="dcterms:W3CDTF">2011-03-22T21:24:10Z</dcterms:modified>
  <cp:revision>31</cp:revision>
  <dc:subject/>
  <dc:title>Slide 1</dc:title>
</cp:coreProperties>
</file>